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98F-1A4E-4EE9-868F-0D3E1332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6C6-E36C-481A-B4D6-DE4ED8D1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805-D6A0-4239-B09D-C9AAAE5D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BAB-1E9E-4411-98A3-A41A6517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6005A-F318-4095-AFCD-DBA4628C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6E5C-D041-45C0-AA5C-8A4DFC6E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907D8-DBB1-459C-B769-3D321B8C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72C00-D60B-4A32-87C4-AF684A68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057EB-3639-43EB-B1BD-5C472591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6996F-2E3B-42B6-8F6F-3975F5D4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B36F7-AF4C-429C-B354-C298753C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7AF-5765-4C02-BFCC-A9D67F0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ED443-423F-4012-9C15-68B0809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14122-A605-4B7B-AD5F-2434AAD5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DD5E7-73FD-4FAB-BEAF-B3CA17D5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C785C-5F40-4850-90FF-5220735B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8EFE2-04A0-4340-A02B-DBEF9FE4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A7B-CE5C-49C5-BBEF-BD5A2DF4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2C3-C582-441B-8A25-60D89F9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642-834D-409E-B138-E876DFF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A30-F805-402C-B1DB-CA60F840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15F-D55E-42DD-8726-8ED57166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DDE-0BC1-40C0-93B8-108DF4C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2E8-7FD7-4756-8E9B-9B2E78E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7B4-3702-424E-BB95-8EF92D3F2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DE86-AEA6-479E-90C4-1B515FF1B5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b.exdat.com/tw_files2/urls_13/5/d-4391/4391_html_55c9dbfd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ская агрессия. Причины и последствия детской агре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Цыганкова Д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Лазеева А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3" descr="http://lib.exdat.com/tw_files2/urls_13/5/d-4391/4391_html_55c9dbf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205000"/>
            <a:ext cx="26017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вня агрессивности у ребен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ительный ответ на каждое предложенное утверждение оценивается в 1 бал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ая агрессивность – 15-20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едняя агрессивность – 7-14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ая агрессивность – 1-6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Я-высказывание»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это прием и способ, с помощью которого взрослый сообщает ребенку о своих чувствах и отрицательных переживаниях, а не о ребёнке и его поведении, которое это переживание вызвало (в отличие от «Ты-высказываний). «Я-высказывание» всегда начинается с личных местоимений: я, мне, мен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зеленую зону</a:t>
            </a:r>
            <a:r>
              <a:rPr b="0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помещается то, что разрешается делать ребенку по его собственному усмотрению и желанию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желтой зон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ребенку предоставляется право действовать по собственному выбору, но в пределах определенных границ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e2702a"/>
                </a:solidFill>
                <a:latin typeface="Times New Roman"/>
                <a:ea typeface="Calibri"/>
              </a:rPr>
              <a:t>оранжевой зоне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 находятся такие действия ребенка, которые родителем уже не приветствуются, но ввиду особых обстоятельств допускаютс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К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асной зоне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относятся те действия ребенка, которые «не приемлемы ни при каких обстоятельств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Договорное соглашение с ребенк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52640"/>
          <a:ext cx="8229600" cy="54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одителей (правила, требов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ебенка (правила и требования для родителей) (мальчик 11 ле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416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Делать уроки до 8 часов вече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Мыть за собой посуд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Убирать за собой постел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употреблять ругательные выражения по отношению к младшей сестр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уважительно с родителя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бить меня ремн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давать мне подзатыльни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меня обзывать (причем выражения со стороны родителей те же, что и ребенка по отношению к младшей сестре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кричать, а просто сказать, что от меня нуж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мне «спасибо», когда что-то делаю по просьбе родител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Замечать и хвалить, когда сам что-то сделал без просьбы родителей (купил хлеб, помыл за всеми посуду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о быть последовательными в своих действиях по отношению к дет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ования, предъявляемые детям, должны быть разумны, а на их выполнении надо настаивать, ясно давая детям понять, чего от них жд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избегать неоправданного применения силы и угроз для контроля поведения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чь ребенку научиться владеть собой, развивать у него чувство контр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ть понять ребенку, что агрессивное поведение никогда не принесет выг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е ребенка говорить о своих переживаниях, называть вещи своими именами: «я разозлился», «я обиделся», «я расстроил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обзывайте ребенка глупым, тупым и т.д. – он будет так же вести себя с други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м больше будет агрессии с вашей стороны, тем больше враждебности зародится в душе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гда ребенку нужно просто понимание, и одно лишь ласковое слово способно снять его озло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грессивное поведение у детей - это своеобразный сигнал SOS, крик о помощи, о внимании к своему внутреннему миру, в котором накопилось слишком много разрушительных эмоций, с которыми ребёнок справиться не в сила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5280" y="475920"/>
            <a:ext cx="81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ловек обладает способностью люб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если он не может найти применения сво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ности любить, он способен ненавиде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являя агрессию и жестокость. Этим средств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руководствуется как бегством от собственн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шевной б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рих Фром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грессия – это поведение, которое причиняет вред предметам, человеку или группе люде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BABY8"/>
          <p:cNvPicPr/>
          <p:nvPr/>
        </p:nvPicPr>
        <p:blipFill>
          <a:blip r:embed="rId1"/>
          <a:stretch/>
        </p:blipFill>
        <p:spPr>
          <a:xfrm>
            <a:off x="5292720" y="3213000"/>
            <a:ext cx="2882880" cy="3095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явления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изическая             верб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утоагрес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иды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трументальная   вражде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4"/>
          <p:cNvCxnSpPr/>
          <p:nvPr/>
        </p:nvCxnSpPr>
        <p:spPr>
          <a:xfrm flipH="1">
            <a:off x="3058560" y="1052640"/>
            <a:ext cx="64980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>
            <a:off x="5651640" y="1052640"/>
            <a:ext cx="50544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2" name="Прямая со стрелкой 8"/>
          <p:cNvCxnSpPr/>
          <p:nvPr/>
        </p:nvCxnSpPr>
        <p:spPr>
          <a:xfrm flipH="1">
            <a:off x="4500360" y="1052280"/>
            <a:ext cx="72000" cy="1369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 flipH="1">
            <a:off x="3419280" y="4508280"/>
            <a:ext cx="792720" cy="8658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>
            <a:off x="5076720" y="4508280"/>
            <a:ext cx="791280" cy="937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ды агре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3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нструментальная (проявляется человеком для достижения определенной це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раждебная (направлена на то, чтобы причинить бол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5" descr="agr_03"/>
          <p:cNvPicPr/>
          <p:nvPr/>
        </p:nvPicPr>
        <p:blipFill>
          <a:blip r:embed="rId1"/>
          <a:stretch/>
        </p:blipFill>
        <p:spPr>
          <a:xfrm>
            <a:off x="6372360" y="4005360"/>
            <a:ext cx="2232000" cy="25668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жнение «Дикта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05040" y="1700280"/>
            <a:ext cx="733392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левание центральной нервной систем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 как средство психологической защит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е нарушения семейного воспита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эмоциональных связей в семье как между родителями и ребенком, так и между самими родителя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ажение к личности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рректная и нетактичная критика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мерный контрол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ое отсутствие контрол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ыток или недостаток внимания со стороны родител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ная исследовательская активность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и, когда за агрессивность принимают что - то другое. Например, детское упрямство (в возрасте 2-4 лет) - «не хочу», «не буду», «я сам»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 на физическую активность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аз в праве на личную свобод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ознательное ожидание страх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ая нестабильность, колебания эмоци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обственной безопасности в семье, где частые ссор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льство собо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ая раздражительн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вин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терии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теряет контроль над соб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орит, ругается с взросл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отказывается выполнять прав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ециально раздражает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винит других в своих ошиб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ердится и отказывается сделать что-либ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завистлив, мстител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42:40Z</dcterms:created>
  <dc:creator> uzer</dc:creator>
  <dc:description/>
  <dc:language>en-US</dc:language>
  <cp:lastModifiedBy>User</cp:lastModifiedBy>
  <dcterms:modified xsi:type="dcterms:W3CDTF">2018-11-23T12:26:48Z</dcterms:modified>
  <cp:revision>30</cp:revision>
  <dc:subject/>
  <dc:title>Агрессивность детей </dc:title>
</cp:coreProperties>
</file>